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13F66-458B-4A5E-BD88-59FDAA29397D}"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A67A1-0AD3-4416-A158-3856C006815C}"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DD23A-E85C-43CF-B1E8-C9A61B3AAFDE}"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1"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2"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SELECTED GENDER CONCEPTS</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SENSITIVE/RESPONSIVE</a:t>
            </a:r>
            <a:endParaRPr b="1" lang="en-US" sz="2800" spc="-1" strike="noStrike">
              <a:solidFill>
                <a:srgbClr val="006fb7"/>
              </a:solidFill>
              <a:latin typeface="Arial"/>
            </a:endParaRPr>
          </a:p>
        </p:txBody>
      </p:sp>
      <p:sp>
        <p:nvSpPr>
          <p:cNvPr id="190" name=""/>
          <p:cNvSpPr txBox="1"/>
          <p:nvPr/>
        </p:nvSpPr>
        <p:spPr>
          <a:xfrm>
            <a:off x="740880" y="1186920"/>
            <a:ext cx="7566120" cy="4789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A gender sensitive or gender responsive project is the application of a gender perspective to project development, including its implementation; it takes into account the needs and priorities of women and men, mindful of the different roles they have in the home, in the workplace and in society</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749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SENSITIVE INDICATORS</a:t>
            </a:r>
            <a:endParaRPr b="1" lang="en-US" sz="2800" spc="-1" strike="noStrike">
              <a:solidFill>
                <a:srgbClr val="006fb7"/>
              </a:solidFill>
              <a:latin typeface="Arial"/>
            </a:endParaRPr>
          </a:p>
        </p:txBody>
      </p:sp>
      <p:sp>
        <p:nvSpPr>
          <p:cNvPr id="192" name=""/>
          <p:cNvSpPr txBox="1"/>
          <p:nvPr/>
        </p:nvSpPr>
        <p:spPr>
          <a:xfrm>
            <a:off x="740880" y="1133640"/>
            <a:ext cx="7566120" cy="48434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Gender sensitive indicators are indicators disaggregated by sex, age and socio-economic background. They are designed to demonstrate changes in relations between women and menin a given society over a period of tim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RESPONSIVE BUDGETING</a:t>
            </a:r>
            <a:endParaRPr b="1" lang="en-US" sz="2800" spc="-1" strike="noStrike">
              <a:solidFill>
                <a:srgbClr val="006fb7"/>
              </a:solidFill>
              <a:latin typeface="Arial"/>
            </a:endParaRPr>
          </a:p>
        </p:txBody>
      </p:sp>
      <p:sp>
        <p:nvSpPr>
          <p:cNvPr id="194" name=""/>
          <p:cNvSpPr txBox="1"/>
          <p:nvPr/>
        </p:nvSpPr>
        <p:spPr>
          <a:xfrm>
            <a:off x="740880" y="1214280"/>
            <a:ext cx="7566120" cy="4762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Gender responsive budgeting aims at mainstreaming gender into public finance. Gender responsive budgets are not separate budgets for women, but instead, general budgets that are planned, approved, executed, monitored and audited in a gender-sensitive wa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74680"/>
            <a:ext cx="7566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GENDER ANALYSIS</a:t>
            </a:r>
            <a:endParaRPr b="1" lang="en-US" sz="2800" spc="-1" strike="noStrike">
              <a:solidFill>
                <a:srgbClr val="006fb7"/>
              </a:solidFill>
              <a:latin typeface="Arial"/>
            </a:endParaRPr>
          </a:p>
        </p:txBody>
      </p:sp>
      <p:sp>
        <p:nvSpPr>
          <p:cNvPr id="196" name=""/>
          <p:cNvSpPr txBox="1"/>
          <p:nvPr/>
        </p:nvSpPr>
        <p:spPr>
          <a:xfrm>
            <a:off x="545760" y="1091880"/>
            <a:ext cx="7761240" cy="4776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Gender analysis is a tool to diagnose the differences between women and men regarding their specific activities, conditions, needs, access to and control over resources, and their access to development benefits and decision-making</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t studies the links between these and other factors in the larger socio-cultural</a:t>
            </a:r>
            <a:r>
              <a:rPr b="0" lang="en-US" sz="2400" spc="-1" strike="noStrike">
                <a:solidFill>
                  <a:srgbClr val="333333"/>
                </a:solidFill>
                <a:latin typeface="Arial"/>
              </a:rPr>
              <a:t>, </a:t>
            </a:r>
            <a:r>
              <a:rPr b="0" lang="en-US" sz="2800" spc="-1" strike="noStrike">
                <a:solidFill>
                  <a:srgbClr val="333333"/>
                </a:solidFill>
                <a:latin typeface="Arial"/>
              </a:rPr>
              <a:t>economic, political and environmental contex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274680"/>
            <a:ext cx="7566120" cy="722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NON DISCRIMINATION AND EQUALITY</a:t>
            </a:r>
            <a:endParaRPr b="1" lang="en-US" sz="2800" spc="-1" strike="noStrike">
              <a:solidFill>
                <a:srgbClr val="006fb7"/>
              </a:solidFill>
              <a:latin typeface="Arial"/>
            </a:endParaRPr>
          </a:p>
        </p:txBody>
      </p:sp>
      <p:sp>
        <p:nvSpPr>
          <p:cNvPr id="198" name=""/>
          <p:cNvSpPr txBox="1"/>
          <p:nvPr/>
        </p:nvSpPr>
        <p:spPr>
          <a:xfrm>
            <a:off x="740880" y="1133640"/>
            <a:ext cx="7566120" cy="48434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Non-discrimination, together with equality before the law, including before the courts and tribunals, and equal protection of the law without any discrimination, constitute a basic and general principle relating to the protection of human right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State party are required to ensure the equal right of women and men to the enjoyment of the rights set forth in international instrument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680"/>
            <a:ext cx="7566120" cy="735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DISCRIMINATION</a:t>
            </a:r>
            <a:endParaRPr b="1" lang="en-US" sz="2800" spc="-1" strike="noStrike">
              <a:solidFill>
                <a:srgbClr val="006fb7"/>
              </a:solidFill>
              <a:latin typeface="Arial"/>
            </a:endParaRPr>
          </a:p>
        </p:txBody>
      </p:sp>
      <p:sp>
        <p:nvSpPr>
          <p:cNvPr id="200" name=""/>
          <p:cNvSpPr txBox="1"/>
          <p:nvPr/>
        </p:nvSpPr>
        <p:spPr>
          <a:xfrm>
            <a:off x="740880" y="1255680"/>
            <a:ext cx="7566120" cy="39988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Discrimination is any distinction, exclusion or restriction made on the basis of sex in the field of civil, cultural, economic, political or social rights, whether in the private or public sphere (Extract from the CEDAW Conventio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680"/>
            <a:ext cx="7566120" cy="735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ULTIPLE DISCRIMINATION</a:t>
            </a:r>
            <a:endParaRPr b="1" lang="en-US" sz="2800" spc="-1" strike="noStrike">
              <a:solidFill>
                <a:srgbClr val="006fb7"/>
              </a:solidFill>
              <a:latin typeface="Arial"/>
            </a:endParaRPr>
          </a:p>
        </p:txBody>
      </p:sp>
      <p:sp>
        <p:nvSpPr>
          <p:cNvPr id="202" name=""/>
          <p:cNvSpPr txBox="1"/>
          <p:nvPr/>
        </p:nvSpPr>
        <p:spPr>
          <a:xfrm>
            <a:off x="740880" y="1119240"/>
            <a:ext cx="7566120" cy="485784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discrimination of women based on sex and gender is inextricably linked with other factors that affect women, such as race, ethnicity, religion or belief, health, status, age, class, caste and sexual orientation and gender identity</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re are circumstances in which racial discrimination only or primarily affects women, or affects women in a different way, or to a different degree than men</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ASED DISCRIMINATION</a:t>
            </a:r>
            <a:endParaRPr b="1" lang="en-US" sz="2800" spc="-1" strike="noStrike">
              <a:solidFill>
                <a:srgbClr val="006fb7"/>
              </a:solidFill>
              <a:latin typeface="Arial"/>
            </a:endParaRPr>
          </a:p>
        </p:txBody>
      </p:sp>
      <p:sp>
        <p:nvSpPr>
          <p:cNvPr id="204" name=""/>
          <p:cNvSpPr txBox="1"/>
          <p:nvPr/>
        </p:nvSpPr>
        <p:spPr>
          <a:xfrm>
            <a:off x="740880" y="1077840"/>
            <a:ext cx="7566120" cy="49816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333333"/>
                </a:solidFill>
                <a:latin typeface="Arial"/>
              </a:rPr>
              <a:t>Gender based discrimination is any distinction, exclusion or restriction which has the effect or purpose of impairing or nullifying the recognition, enjoyment or exercise by women of human rights and fundamental freedoms, including where discrimination was not intended</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333333"/>
                </a:solidFill>
                <a:latin typeface="Arial"/>
              </a:rPr>
              <a:t>Gender based discrimination can be direct or indirect, or occur in law or in practi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ARTICIPATION</a:t>
            </a:r>
            <a:endParaRPr b="1" lang="en-US" sz="2800" spc="-1" strike="noStrike">
              <a:solidFill>
                <a:srgbClr val="006fb7"/>
              </a:solidFill>
              <a:latin typeface="Arial"/>
            </a:endParaRPr>
          </a:p>
        </p:txBody>
      </p:sp>
      <p:sp>
        <p:nvSpPr>
          <p:cNvPr id="206" name=""/>
          <p:cNvSpPr txBox="1"/>
          <p:nvPr/>
        </p:nvSpPr>
        <p:spPr>
          <a:xfrm>
            <a:off x="740880" y="1214280"/>
            <a:ext cx="7566120" cy="4762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principle of participation is a basic element of social progress and seeks to ensure the dignity, value and freedom of the human pers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general import of participation identifies active, free and meaningful participation in development and in the fair distribution of benefits resulting there from as the basis for any comprehensive civil, cultural, economic, political and social process, which aims at the constant improvement of the well being of the entire population, including women and men</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UDIT</a:t>
            </a:r>
            <a:endParaRPr b="1" lang="en-US" sz="2800" spc="-1" strike="noStrike">
              <a:solidFill>
                <a:srgbClr val="006fb7"/>
              </a:solidFill>
              <a:latin typeface="Arial"/>
            </a:endParaRPr>
          </a:p>
        </p:txBody>
      </p:sp>
      <p:sp>
        <p:nvSpPr>
          <p:cNvPr id="208" name=""/>
          <p:cNvSpPr txBox="1"/>
          <p:nvPr/>
        </p:nvSpPr>
        <p:spPr>
          <a:xfrm>
            <a:off x="740880" y="1173240"/>
            <a:ext cx="7566120" cy="4803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gender audit is an assessment of the extent to which gender equality is effectively institutionalized in the policies, programmes, organizational structures and proceedings, including decision-making processes, and in the corresponding budget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WHAT IS GENDER?</a:t>
            </a:r>
            <a:endParaRPr b="1" lang="en-US" sz="2800" spc="-1" strike="noStrike">
              <a:solidFill>
                <a:srgbClr val="006fb7"/>
              </a:solidFill>
              <a:latin typeface="Arial"/>
            </a:endParaRPr>
          </a:p>
        </p:txBody>
      </p:sp>
      <p:sp>
        <p:nvSpPr>
          <p:cNvPr id="174" name=""/>
          <p:cNvSpPr txBox="1"/>
          <p:nvPr/>
        </p:nvSpPr>
        <p:spPr>
          <a:xfrm>
            <a:off x="558720" y="1118880"/>
            <a:ext cx="8323200" cy="46400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Gender refers to the array of socially constructed roles and relationships, personality traits, attitudes, behaviors, values, relative power and influence that society ascribes to women and men on a differential basi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Whereas biological sex is determined by genetic and anatomical characteristics, gender is an acquired identity that is learned, changes over time, and varies widely within and across cultures. Gender is relational and refers not simply to women or men but to the relationship between them</a:t>
            </a:r>
            <a:endParaRPr b="0" lang="en-US" sz="24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ARTICIPATORY GENDER AUDIT</a:t>
            </a:r>
            <a:endParaRPr b="1" lang="en-US" sz="2800" spc="-1" strike="noStrike">
              <a:solidFill>
                <a:srgbClr val="006fb7"/>
              </a:solidFill>
              <a:latin typeface="Arial"/>
            </a:endParaRPr>
          </a:p>
        </p:txBody>
      </p:sp>
      <p:sp>
        <p:nvSpPr>
          <p:cNvPr id="210" name=""/>
          <p:cNvSpPr txBox="1"/>
          <p:nvPr/>
        </p:nvSpPr>
        <p:spPr>
          <a:xfrm>
            <a:off x="740880" y="1119240"/>
            <a:ext cx="7566120" cy="4857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A Participatory Gender Audit is a tool and a process based on a participatory methodology which aims at promoting organizational learning on practical and effective gender integration</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It takes into account objective data and staff perceptions of the achievement of gender equality in an organization in order to better understand concrete and unsubtantiated facts and interpretation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680"/>
            <a:ext cx="7566120" cy="681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EXUAL ORIENTATION</a:t>
            </a:r>
            <a:endParaRPr b="1" lang="en-US" sz="2800" spc="-1" strike="noStrike">
              <a:solidFill>
                <a:srgbClr val="006fb7"/>
              </a:solidFill>
              <a:latin typeface="Arial"/>
            </a:endParaRPr>
          </a:p>
        </p:txBody>
      </p:sp>
      <p:sp>
        <p:nvSpPr>
          <p:cNvPr id="212" name=""/>
          <p:cNvSpPr txBox="1"/>
          <p:nvPr/>
        </p:nvSpPr>
        <p:spPr>
          <a:xfrm>
            <a:off x="740880" y="1201320"/>
            <a:ext cx="7566120" cy="4367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xual orientation may be defined as the sexual, emotional and affective attraction for people of the different genders, the same gender or more than one gender. A homosexual orientation may be gay or lesbian. A bisexual person is a man or woman who is physically, emotionally and affectively attracted to members of both genders</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680"/>
            <a:ext cx="7566120" cy="722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MPOWERMENT OF WOMEN</a:t>
            </a:r>
            <a:endParaRPr b="1" lang="en-US" sz="2800" spc="-1" strike="noStrike">
              <a:solidFill>
                <a:srgbClr val="006fb7"/>
              </a:solidFill>
              <a:latin typeface="Arial"/>
            </a:endParaRPr>
          </a:p>
        </p:txBody>
      </p:sp>
      <p:sp>
        <p:nvSpPr>
          <p:cNvPr id="214" name=""/>
          <p:cNvSpPr txBox="1"/>
          <p:nvPr/>
        </p:nvSpPr>
        <p:spPr>
          <a:xfrm>
            <a:off x="739440" y="1160280"/>
            <a:ext cx="7567560" cy="48164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mpowerment is the process of acquiring the ability to make strategic life choices in a context where this ability has previously been denied. The core elements of empowerment are:</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he ability to define one’s goals and act upon them</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Awareness of gendered power structur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Self-esteem and self-confidence</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mpowerment can take place at individual, household, community and societal levels and is facilitated by exposure to new activities, which can build capacities and removing inhibiting factors such as lack of resources and skill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HUMAN RIGHTS OF WOMEN</a:t>
            </a:r>
            <a:endParaRPr b="1" lang="en-US" sz="2800" spc="-1" strike="noStrike">
              <a:solidFill>
                <a:srgbClr val="006fb7"/>
              </a:solidFill>
              <a:latin typeface="Arial"/>
            </a:endParaRPr>
          </a:p>
        </p:txBody>
      </p:sp>
      <p:sp>
        <p:nvSpPr>
          <p:cNvPr id="216" name=""/>
          <p:cNvSpPr txBox="1"/>
          <p:nvPr/>
        </p:nvSpPr>
        <p:spPr>
          <a:xfrm>
            <a:off x="740880" y="1173240"/>
            <a:ext cx="7566120" cy="48038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e human rights framework from women's perspectives reveals how current human rights definitions and practices fail to account for the ways in which human rights violations often affect women differently because of their gender.</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is approach points out that there are dimensions within the received definitions that are gender-specific and need to be addressed if the mechanisms, programs, and the human rights framework itself are to include and reflect the experiences of the female popula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LASS CEILING</a:t>
            </a:r>
            <a:endParaRPr b="1" lang="en-US" sz="2800" spc="-1" strike="noStrike">
              <a:solidFill>
                <a:srgbClr val="006fb7"/>
              </a:solidFill>
              <a:latin typeface="Arial"/>
            </a:endParaRPr>
          </a:p>
        </p:txBody>
      </p:sp>
      <p:sp>
        <p:nvSpPr>
          <p:cNvPr id="218" name=""/>
          <p:cNvSpPr txBox="1"/>
          <p:nvPr/>
        </p:nvSpPr>
        <p:spPr>
          <a:xfrm>
            <a:off x="740880" y="1186920"/>
            <a:ext cx="7566120" cy="4789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Glass ceiling is a vertical segregation against women which constitute invisible and artificial barriers depriving women from access to top decision-making and managerial positions arising mainly from a persistent masculine bias in organizational culture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DATA COLLECTION</a:t>
            </a:r>
            <a:endParaRPr b="1" lang="en-US" sz="2800" spc="-1" strike="noStrike">
              <a:solidFill>
                <a:srgbClr val="006fb7"/>
              </a:solidFill>
              <a:latin typeface="Arial"/>
            </a:endParaRPr>
          </a:p>
        </p:txBody>
      </p:sp>
      <p:sp>
        <p:nvSpPr>
          <p:cNvPr id="220" name=""/>
          <p:cNvSpPr txBox="1"/>
          <p:nvPr/>
        </p:nvSpPr>
        <p:spPr>
          <a:xfrm>
            <a:off x="577440" y="1171440"/>
            <a:ext cx="7566120" cy="44769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x-Disaggregated Data is data that is collected and presented separately on men and women, boys and girls. Sex-disaggregated data reflect roles, real situations, general conditions of women and men in every aspects of the society (education, business, employment, dependents, ownership)</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6" descr="title_slide_background_3_white.jpg"/>
          <p:cNvPicPr/>
          <p:nvPr/>
        </p:nvPicPr>
        <p:blipFill>
          <a:blip r:embed="rId1"/>
          <a:stretch/>
        </p:blipFill>
        <p:spPr>
          <a:xfrm>
            <a:off x="4130640" y="0"/>
            <a:ext cx="5013360" cy="4230720"/>
          </a:xfrm>
          <a:prstGeom prst="rect">
            <a:avLst/>
          </a:prstGeom>
          <a:ln w="0">
            <a:noFill/>
          </a:ln>
        </p:spPr>
      </p:pic>
      <p:sp>
        <p:nvSpPr>
          <p:cNvPr id="22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UESTIONS AND ANSWERS</a:t>
            </a:r>
            <a:endParaRPr b="1" lang="en-US" sz="2800" spc="-1" strike="noStrike">
              <a:solidFill>
                <a:srgbClr val="006fb7"/>
              </a:solidFill>
              <a:latin typeface="Arial"/>
            </a:endParaRPr>
          </a:p>
        </p:txBody>
      </p:sp>
      <p:sp>
        <p:nvSpPr>
          <p:cNvPr id="22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EQUALITY</a:t>
            </a:r>
            <a:endParaRPr b="1" lang="en-US" sz="2800" spc="-1" strike="noStrike">
              <a:solidFill>
                <a:srgbClr val="006fb7"/>
              </a:solidFill>
              <a:latin typeface="Arial"/>
            </a:endParaRPr>
          </a:p>
        </p:txBody>
      </p:sp>
      <p:sp>
        <p:nvSpPr>
          <p:cNvPr id="176" name=""/>
          <p:cNvSpPr txBox="1"/>
          <p:nvPr/>
        </p:nvSpPr>
        <p:spPr>
          <a:xfrm>
            <a:off x="740880" y="1211040"/>
            <a:ext cx="7566120" cy="46846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33333"/>
                </a:solidFill>
                <a:latin typeface="Arial"/>
              </a:rPr>
              <a:t>Inherent to the principle of equality between men and women, or gender equality, is the concept that all human beings, regardless of sex, are free to develop their personal abilities, pursue their professional careers and make choices without the limitations set by stereotypes, rigid gender roles and prejudices. </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33333"/>
                </a:solidFill>
                <a:latin typeface="Arial"/>
              </a:rPr>
              <a:t>States parties are called upon to use exclusively the concepts of equality of women and men or gender equality and not to use the concept of gender equity in implementing their obligations under the Conven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40880" y="274680"/>
            <a:ext cx="7566120" cy="1076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EQUITY AND TEMPORARY POSITIVE MEASURES</a:t>
            </a:r>
            <a:endParaRPr b="1" lang="en-US" sz="2800" spc="-1" strike="noStrike">
              <a:solidFill>
                <a:srgbClr val="006fb7"/>
              </a:solidFill>
              <a:latin typeface="Arial"/>
            </a:endParaRPr>
          </a:p>
        </p:txBody>
      </p:sp>
      <p:sp>
        <p:nvSpPr>
          <p:cNvPr id="178" name=""/>
          <p:cNvSpPr txBox="1"/>
          <p:nvPr/>
        </p:nvSpPr>
        <p:spPr>
          <a:xfrm>
            <a:off x="740880" y="1665000"/>
            <a:ext cx="7566120" cy="431172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Gender equity is used in some jurisdictions to refer to fair treatment of women and men, according to their respective needs. This may include equal treatment, or treatment that is different but considered equivalent in terms of rights, benefits, obligations and opportunitie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Gender equity or temporary positive measures is a means to achieve gender equality</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74320"/>
            <a:ext cx="7566120" cy="654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vs SEX</a:t>
            </a:r>
            <a:endParaRPr b="1" lang="en-US" sz="2800" spc="-1" strike="noStrike">
              <a:solidFill>
                <a:srgbClr val="006fb7"/>
              </a:solidFill>
              <a:latin typeface="Arial"/>
            </a:endParaRPr>
          </a:p>
        </p:txBody>
      </p:sp>
      <p:sp>
        <p:nvSpPr>
          <p:cNvPr id="180" name=""/>
          <p:cNvSpPr txBox="1"/>
          <p:nvPr/>
        </p:nvSpPr>
        <p:spPr>
          <a:xfrm>
            <a:off x="740880" y="1119240"/>
            <a:ext cx="7566120" cy="48578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While Gender is a social construct, t</a:t>
            </a:r>
            <a:r>
              <a:rPr b="0" lang="fr-FR" sz="2400" spc="-1" strike="noStrike">
                <a:solidFill>
                  <a:srgbClr val="333333"/>
                </a:solidFill>
                <a:latin typeface="Arial"/>
              </a:rPr>
              <a:t>he term sex refers to biological </a:t>
            </a:r>
            <a:r>
              <a:rPr b="0" lang="en-US" sz="2400" spc="-1" strike="noStrike">
                <a:solidFill>
                  <a:srgbClr val="333333"/>
                </a:solidFill>
                <a:latin typeface="Arial"/>
              </a:rPr>
              <a:t>characteristics that define humans as female or male. These sets of biological characteristics are not mutually exclusive, as there are individuals who possess both, they tend to differentiate humans as males and females</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Sex is fixed and based in nature; gender is fluid and based in culture. However, this distinction ignores the existence of persons who do not fit neatly into the biological or social categories of women and men, such as intersex, transgender, and transsexual people</a:t>
            </a:r>
            <a:r>
              <a:rPr b="0" lang="en-US" sz="2600" spc="-1" strike="noStrike">
                <a:solidFill>
                  <a:srgbClr val="333333"/>
                </a:solidFill>
                <a:latin typeface="Arial"/>
              </a:rPr>
              <a:t>. </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0880" y="274320"/>
            <a:ext cx="7566120" cy="749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IDENTITY</a:t>
            </a:r>
            <a:endParaRPr b="1" lang="en-US" sz="2800" spc="-1" strike="noStrike">
              <a:solidFill>
                <a:srgbClr val="006fb7"/>
              </a:solidFill>
              <a:latin typeface="Arial"/>
            </a:endParaRPr>
          </a:p>
        </p:txBody>
      </p:sp>
      <p:sp>
        <p:nvSpPr>
          <p:cNvPr id="182" name=""/>
          <p:cNvSpPr txBox="1"/>
          <p:nvPr/>
        </p:nvSpPr>
        <p:spPr>
          <a:xfrm>
            <a:off x="740880" y="1145880"/>
            <a:ext cx="7566120" cy="4830840"/>
          </a:xfrm>
          <a:prstGeom prst="rect">
            <a:avLst/>
          </a:prstGeom>
          <a:noFill/>
          <a:ln w="0">
            <a:noFill/>
          </a:ln>
        </p:spPr>
        <p:txBody>
          <a:bodyPr anchor="t">
            <a:normAutofit/>
          </a:bodyPr>
          <a:p>
            <a:pPr marL="343080" indent="-3430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Gender identity refers to a person’s deeply felt internal and individual experience of gender, which may or may not correspond with the sex assigned at birth, including the personal sense of the body (…) and other expressions of gender, such as dress, speech and mannerisms’.</a:t>
            </a:r>
            <a:endParaRPr b="0" lang="en-US" sz="2300" spc="-1" strike="noStrike">
              <a:solidFill>
                <a:srgbClr val="333333"/>
              </a:solidFill>
              <a:latin typeface="Arial"/>
            </a:endParaRPr>
          </a:p>
          <a:p>
            <a:pPr marL="343080" indent="-3430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Transgendered is a broad term, encompassing all persons whose gender expression or identity differs from the expectations associated with the physical sex they were born into. Sub-groups of transgendered persons include transsexuals, transvestites, effeminate men, butch women, and consciously androgynous people</a:t>
            </a: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ALANCE</a:t>
            </a:r>
            <a:endParaRPr b="1" lang="en-US" sz="2800" spc="-1" strike="noStrike">
              <a:solidFill>
                <a:srgbClr val="006fb7"/>
              </a:solidFill>
              <a:latin typeface="Arial"/>
            </a:endParaRPr>
          </a:p>
        </p:txBody>
      </p:sp>
      <p:sp>
        <p:nvSpPr>
          <p:cNvPr id="184" name=""/>
          <p:cNvSpPr txBox="1"/>
          <p:nvPr/>
        </p:nvSpPr>
        <p:spPr>
          <a:xfrm>
            <a:off x="740880" y="1201680"/>
            <a:ext cx="7566120" cy="44481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A balanced composition of women and men in order to bring equality to the current male-dominated workplace. It also means women having the same opportunities in life as men, including the ability to participate in the public spher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NEUTRAL</a:t>
            </a:r>
            <a:endParaRPr b="1" lang="en-US" sz="2800" spc="-1" strike="noStrike">
              <a:solidFill>
                <a:srgbClr val="006fb7"/>
              </a:solidFill>
              <a:latin typeface="Arial"/>
            </a:endParaRPr>
          </a:p>
        </p:txBody>
      </p:sp>
      <p:sp>
        <p:nvSpPr>
          <p:cNvPr id="186" name=""/>
          <p:cNvSpPr txBox="1"/>
          <p:nvPr/>
        </p:nvSpPr>
        <p:spPr>
          <a:xfrm>
            <a:off x="740880" y="1133640"/>
            <a:ext cx="7566120" cy="48434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Gender-neutral language or gender-inclusive language is linguistic prescriptivism that aims at minimizing assumptions regarding the gender of human referent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The term should not be confused with that of genderless language, which refers to languages without grammatical gender. The advocacy of gender-neutral language reflects two different agenda: (i) Clarify the inclusion of all sexes or genders (gender-inclusive language); and (ii) Propose that gender, as a category, is rarely worth marking in language (gender-neutral language)</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LIND</a:t>
            </a:r>
            <a:endParaRPr b="1" lang="en-US" sz="2800" spc="-1" strike="noStrike">
              <a:solidFill>
                <a:srgbClr val="006fb7"/>
              </a:solidFill>
              <a:latin typeface="Arial"/>
            </a:endParaRPr>
          </a:p>
        </p:txBody>
      </p:sp>
      <p:sp>
        <p:nvSpPr>
          <p:cNvPr id="188" name=""/>
          <p:cNvSpPr txBox="1"/>
          <p:nvPr/>
        </p:nvSpPr>
        <p:spPr>
          <a:xfrm>
            <a:off x="740880" y="1228320"/>
            <a:ext cx="7566120" cy="427212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Gender-blind is a term describing activities undertaken and services provided without regard to the gender of those who participate.</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It also means </a:t>
            </a:r>
            <a:r>
              <a:rPr b="0" lang="en-US" sz="2800" spc="-1" strike="noStrike">
                <a:solidFill>
                  <a:srgbClr val="333333"/>
                </a:solidFill>
                <a:latin typeface="Arial"/>
              </a:rPr>
              <a:t>not discriminating on the basis of gender, or not making a distinction between women and me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cp:lastPrinted>2012-11-22T16:24:24Z</cp:lastPrinted>
  <dcterms:modified xsi:type="dcterms:W3CDTF">2012-11-23T10:27:25Z</dcterms:modified>
  <cp:revision>186</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